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CEB57-9F8A-4797-B7DC-5F8A29699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3D66C-05BC-4362-A564-AA8F28EAB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6838D-1192-465E-9200-83A0B0F16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47B74-1543-48DF-9637-CDBE773C4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10E7A-C27F-4FB2-8DF4-E3DFFBE1B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D0F9B-3F2D-449E-823C-4ED89C473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3739B-A5E4-4AD1-95ED-FCA87690B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501B8-B42A-45B2-9E3F-C8971C486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355C0-A9F0-4142-BB55-59F432155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C3182-5B35-4E14-986D-30D3E912A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5F39F-11CD-4EE1-82BA-7CC7C871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999AD-9820-4256-A593-B59FF2A34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05B0F-CDF1-4108-9AD9-C722A7211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13AEA-F80B-4996-AEB8-FEB916751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C2210-90CB-4F98-BBBD-A533C2D1F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8DC64-6000-4771-8E27-0F2A7F3CA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C8B70-F0D3-42E2-B07D-AAB1B0852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43EC7-C67D-4DA9-96FA-FC271F9F0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8015F-914D-42A8-8122-D62408A41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137EE-5E65-4613-A94D-49C6B78EE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C75CF-D69C-408D-A483-034048599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F9DAE-A88F-4E5B-B07F-F25DCCCCC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B04B9-6AA8-4DD9-BE82-16214B3F0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F1DD6-6B2C-45F0-848C-5612EFB68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698C0-4C2F-4ED4-AD48-54B439043FB6}" type="slidenum">
              <a:rPr b="0" lang="bg-BG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D217E-13D6-4A9F-BC43-E9ACEB8D2A91}" type="slidenum">
              <a:rPr b="0" lang="bg-BG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-252360" y="28080"/>
            <a:ext cx="9577440" cy="65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ffffff"/>
                </a:solidFill>
                <a:latin typeface="Garamond"/>
              </a:rPr>
              <a:t>284 </a:t>
            </a: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bg-BG" sz="3000" spc="-1" strike="noStrike">
                <a:solidFill>
                  <a:srgbClr val="ffffff"/>
                </a:solidFill>
                <a:latin typeface="Garamond"/>
              </a:rPr>
              <a:t>Пр.386</a:t>
            </a: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bg-BG" sz="3600" spc="-1" strike="noStrike">
                <a:solidFill>
                  <a:srgbClr val="ffffff"/>
                </a:solidFill>
                <a:latin typeface="Garamond"/>
              </a:rPr>
              <a:t> Вий, борци Христови, тръгвайте в поход против всяка кривда в нашия народ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Garamond"/>
              </a:rPr>
              <a:t>Ей, и против злото в цял страдалний свя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Garamond"/>
              </a:rPr>
              <a:t>в името на наший славен Вожд разпнат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Garamond"/>
              </a:rPr>
              <a:t>Вий, борци Христови, тръгвайте в поход против всяка кривда в нашия народ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-541440" y="527760"/>
            <a:ext cx="10082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3600" spc="-1" strike="noStrike">
                <a:solidFill>
                  <a:srgbClr val="ffffff"/>
                </a:solidFill>
                <a:latin typeface="Garamond"/>
              </a:rPr>
              <a:t>2. Трудности ще адски срещнем в своя пъ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Garamond"/>
              </a:rPr>
              <a:t>от греха и всички роби на грехът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Garamond"/>
              </a:rPr>
              <a:t>низост, мрак, лукавство, леност, плътск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Garamond"/>
              </a:rPr>
              <a:t>сласт вси ще се опълчат злобно против нас! Трудности ще адски срещнем в своя пъ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Garamond"/>
              </a:rPr>
              <a:t>от греха и всички роби на грехът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-252360" y="554400"/>
            <a:ext cx="9577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3600" spc="-1" strike="noStrike">
                <a:solidFill>
                  <a:srgbClr val="ffffff"/>
                </a:solidFill>
                <a:latin typeface="Garamond"/>
              </a:rPr>
              <a:t>3. Като знаем Кой бе с тръни увенча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3600" spc="-1" strike="noStrike">
                <a:solidFill>
                  <a:srgbClr val="ffffff"/>
                </a:solidFill>
                <a:latin typeface="Garamond"/>
              </a:rPr>
              <a:t>и за добротворство на кръст прикован, загуби и мъки смело да презрем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Garamond"/>
              </a:rPr>
              <a:t>смело да живеем, за добро да мрем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Garamond"/>
              </a:rPr>
              <a:t>Като знаем Кой бе с тръни увенчан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Garamond"/>
              </a:rPr>
              <a:t>и за добротворство на кръст прикован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-252360" y="278640"/>
            <a:ext cx="9577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3600" spc="-1" strike="noStrike">
                <a:solidFill>
                  <a:srgbClr val="ffffff"/>
                </a:solidFill>
                <a:latin typeface="Garamond"/>
              </a:rPr>
              <a:t>4. Знамето победно дига тоз наслов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Garamond"/>
              </a:rPr>
              <a:t>„</a:t>
            </a:r>
            <a:r>
              <a:rPr b="1" lang="bg-BG" sz="3600" spc="-1" strike="noStrike">
                <a:solidFill>
                  <a:srgbClr val="ffffff"/>
                </a:solidFill>
                <a:latin typeface="Garamond"/>
              </a:rPr>
              <a:t>Идем срещу вас със прошка и любов!“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3600" spc="-1" strike="noStrike">
                <a:solidFill>
                  <a:srgbClr val="ffffff"/>
                </a:solidFill>
                <a:latin typeface="Garamond"/>
              </a:rPr>
              <a:t>И като Исуса, наший Вожд любим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Garamond"/>
              </a:rPr>
              <a:t>кривдата със правда ние ще победим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3600" spc="-1" strike="noStrike">
                <a:solidFill>
                  <a:srgbClr val="ffffff"/>
                </a:solidFill>
                <a:latin typeface="Garamond"/>
              </a:rPr>
              <a:t>Знаме ни победно дига тоз наслов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Garamond"/>
              </a:rPr>
              <a:t>„</a:t>
            </a:r>
            <a:r>
              <a:rPr b="1" lang="bg-BG" sz="3600" spc="-1" strike="noStrike">
                <a:solidFill>
                  <a:srgbClr val="ffffff"/>
                </a:solidFill>
                <a:latin typeface="Garamond"/>
              </a:rPr>
              <a:t>Идем срещу вас със прошка и любов!"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123</cp:lastModifiedBy>
  <dcterms:modified xsi:type="dcterms:W3CDTF">2005-10-22T16:00:55Z</dcterms:modified>
  <cp:revision>218</cp:revision>
  <dc:subject/>
  <dc:title>Slide 1</dc:title>
</cp:coreProperties>
</file>